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B21-4DCF-4991-ADD8-F20E6218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7FD-29FC-45F4-85D2-87B06EF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D7B-FE8D-4576-B2D1-A764FC2E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AF2-47CE-4C3C-84DF-76DEF596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394-A3B8-4181-B744-6BF7ED3D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DAF-8E85-4FD4-BE1A-9C4ABA88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AD8-55A2-4E5B-86BD-A5C6A903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14D-7326-4AFA-9441-53D78034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F4B-EC22-4503-8888-573172B8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050-C41A-4FFA-8950-AB0102C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388-5517-4FE5-8C63-E2352E25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99E-887D-4B67-9997-74F60467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BE17-9B0D-4A6F-935A-F087EE0E2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9-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I can identify problems and evaluate solu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8951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atch the vide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hat was ONE problem and the solution/s?  Was/were the solution/s effective?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 Problems/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Problems and Solutions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“Fighting for Fairnes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 will begin the problem/solution graphic organizer together, and then you will finish it by your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you complete the graphic organizer, read quie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Independen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oose an article from the front of the r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LET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5 annotations on the artic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 RR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RJ, answ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major problem (conflict) in your article?  What were the solutions?  Explain if you believe the solution was or was not ef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RRJ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main problem in my article is that 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olution was to 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 know this because the text said 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__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text also mentioned 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__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 do OR do not believe this solution was effective because 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RRJs with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1:16:55Z</dcterms:created>
  <dc:creator>Administrator</dc:creator>
  <dc:description/>
  <dc:language>en-US</dc:language>
  <cp:lastModifiedBy>Administrator</cp:lastModifiedBy>
  <dcterms:modified xsi:type="dcterms:W3CDTF">2010-08-31T22:28:27Z</dcterms:modified>
  <cp:revision>4</cp:revision>
  <dc:subject/>
  <dc:title>9-1 I can identify problems and evaluate solutions.</dc:title>
</cp:coreProperties>
</file>